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CFEB-1BD5-40A5-B277-A9AE96FB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37F4-D7E6-4BCD-B11E-C97B7A9C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036E-9838-46E0-BE6A-DA1F4B0B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5393-8E2C-429F-8F24-BC84A576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605-7FDF-4FA4-A7F1-78DEDEE9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DA8B-F9D0-4281-88A5-92AEE1B2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F520-8FAE-49CD-BE03-EB13F56D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C4A4-7F80-4A2D-AE98-0335CD14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7CFA-CFA1-4D7B-B3D5-3F5DA67B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7359-7E00-4D3C-817A-E1D1ABE7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C51-1D5B-419B-BF25-860A1888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CF2-D335-48F6-A4DE-676FAB82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3D1D-170C-4AA5-8CEB-46680223F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/index.php?title=Religious_malpractice&amp;action=edit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579096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CTION"/>
                <a:ea typeface="ACTION"/>
              </a:rPr>
              <a:t>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CTION"/>
                <a:ea typeface="ACTION"/>
              </a:rPr>
              <a:t>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14600" y="571500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by Justin Low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3962160" cy="3935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iverside Chaucer. Houghton Mifflin Co. 1987. F.N. Robinson, 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The Canterbury Tales: Critical Overview". 2005. 19 Feb 2008. &lt;http://www.bookrags.com/studyguide-canterburytales/crit.html&gt;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The Canterbury Tales." 19 Feb 2008 &lt;http://en.wikipedia.org/wiki/The_Canterbury_Tales&gt;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Chau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somewhere between 1342-1345 and died on October 25, 14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ucer married Phillippa who bore him 2 sons and a daugh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fluent in French and Lat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ro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Canterbury Ta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1380s until the late 139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his ear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left home and became a page when he was fourt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he got older, he work in the government, helping various rich men and k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traveled to Italy a lot on business and met a Petr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he became familiar with Italian stories and poe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4154400" cy="5638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"/>
              </a:rPr>
              <a:t>About </a:t>
            </a:r>
            <a:r>
              <a:rPr b="1" i="1" lang="en-US" sz="4000" spc="-1" strike="noStrike">
                <a:solidFill>
                  <a:srgbClr val="000099"/>
                </a:solidFill>
                <a:latin typeface="comic"/>
              </a:rPr>
              <a:t>The</a:t>
            </a:r>
            <a:r>
              <a:rPr b="1" lang="en-US" sz="4000" spc="-1" strike="noStrike">
                <a:solidFill>
                  <a:srgbClr val="000099"/>
                </a:solidFill>
                <a:latin typeface="comic"/>
              </a:rPr>
              <a:t> </a:t>
            </a:r>
            <a:r>
              <a:rPr b="1" i="1" lang="en-US" sz="4000" spc="-1" strike="noStrike">
                <a:solidFill>
                  <a:srgbClr val="000099"/>
                </a:solidFill>
                <a:latin typeface="comic"/>
              </a:rPr>
              <a:t>Canterbury 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nterbury Tales is a collection of stories.  Two written in prose and the rest are written in v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l the stories are contained inside a frame tale which are told by several pilgri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me of the tales are serious and others comi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419720" y="2057400"/>
            <a:ext cx="4495680" cy="38448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KEEM"/>
                <a:ea typeface="AKEEM"/>
              </a:rPr>
              <a:t>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askerville Old Face"/>
              </a:rPr>
              <a:t>The themes of the tales vary, and include topics such as courtly love, treachery, and avaric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askerville Old Face"/>
              </a:rPr>
              <a:t>Religious malpractice is a major them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askerville Old Face"/>
              </a:rPr>
              <a:t>Also, focusing on the division of the three estates (nobility, clergy, and commoners) are a big part of the tal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askerville Old Face"/>
              </a:rPr>
              <a:t>The genres also vary, and include romance, Breton lai, sermon, beast fable, and fabliaux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the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pilgrims are traveling from Southwark to Canterbury to visit the Shrine of Saint Thomas Beck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ople come from all layers of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decide to entertain themselves to kill time and tell each other stories while riding on their hor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Canterbury T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bo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4952880" cy="4599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IBI"/>
                <a:ea typeface="ALIBI"/>
              </a:rPr>
              <a:t>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General Prolog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Knight's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Miller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Reeve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ook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Man of Law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Wife of Bath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Friar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Summoner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lerk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Merchant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Squire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Franklin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Physician's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Pardoner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Shipman's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Prioress'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aucer's Tale of Sir Top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Tale of Melibe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Monk's Prologue and Tal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Nun's Priest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Second Nun's Prologue and Tal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anon's Yeoman‘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Manciple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Parson's Prologue and Tal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aucer's Retractio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es incompl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was originally intended that each character in the story tell four tales (two on the way to Canterbury and two coming bac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is had happened, there would have been a possible 120 total sto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would have been way more than the 24 stories actually writt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25880" y="1371600"/>
            <a:ext cx="39960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skerville Old Face"/>
              </a:rPr>
              <a:t>Significance of </a:t>
            </a:r>
            <a:r>
              <a:rPr b="1" i="1" lang="en-US" sz="4000" spc="-1" strike="noStrike">
                <a:solidFill>
                  <a:srgbClr val="000000"/>
                </a:solidFill>
                <a:latin typeface="Baskerville Old Face"/>
              </a:rPr>
              <a:t>The Canterbury 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MILE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MILES"/>
                <a:ea typeface="MILES"/>
              </a:rPr>
              <a:t>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MILE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MILES"/>
                <a:ea typeface="MILES"/>
              </a:rPr>
              <a:t>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MILE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MILES"/>
                <a:ea typeface="MILES"/>
              </a:rPr>
              <a:t>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MILE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MILES"/>
                <a:ea typeface="MILES"/>
              </a:rPr>
              <a:t>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4:33:04Z</dcterms:created>
  <dc:creator>Preferred Customer</dc:creator>
  <dc:description/>
  <dc:language>en-US</dc:language>
  <cp:lastModifiedBy>Preferred Customer</cp:lastModifiedBy>
  <dcterms:modified xsi:type="dcterms:W3CDTF">2008-02-20T05:58:04Z</dcterms:modified>
  <cp:revision>2</cp:revision>
  <dc:subject/>
  <dc:title>Canterbury Tales  by Geoffrey Chaucer</dc:title>
</cp:coreProperties>
</file>